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84E-7870-474A-BA75-9437C599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1D92-FF06-46C2-A627-6F700A8E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A0F9-A59B-4657-9759-B10F76B2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7970-0C6E-455F-A848-05E48CC5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95F-49DB-4A20-89D7-B9907FD4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7232-8CCF-47D3-A8CB-890F4CF8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1A0D-9DE0-411F-8924-CE3AAC43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CF0F-9AFE-4B82-9783-A695D0E6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5B7-F4B4-4021-AA69-1FA209D7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BF0D-ED69-400A-9DC5-E451AF5B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980-D638-496B-9BC6-A8B7EB6B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A7A6-B9AF-4DAE-8A3C-2D3FA4E8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FEF4-3BC9-47D7-A473-737C84570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808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CATEGORICAL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80880" y="9144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riables that place an individual/subject into one of several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0880" y="25146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esn’t make sense to take an average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80880" y="1905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ny times they are non-num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80880" y="31240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amples: eye color, gender, year in school (soph, junior, senior), zip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80880" y="411480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 display the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Pie chart of Bar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808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Line Grap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80880" y="9144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lots each observation against the time at which it was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80880" y="18288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ut time on the x-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80880" y="2438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lot the variable you are measuring on the y-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80880" y="30481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nect the dots by lines (not curves) to display a change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808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914400"/>
            <a:ext cx="8305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are the years and the amount of students taking AP Stat here in Central Bucks.  Create a line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3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1295280" y="990720"/>
            <a:ext cx="556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book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 219 #11, 13, 14,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808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QUANTITATIV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80880" y="914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akes numerica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80880" y="1447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kes sense to take average, do other arithm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80880" y="21337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amples: age, height, weight, time, grade on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80880" y="380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80880" y="914400"/>
            <a:ext cx="8305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want to list variables about colleges/universit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 both categorical and quantita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808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stribution of 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80880" y="9144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ells us what values the variable takes and how often it takes tho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80880" y="192096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amples: Bar graph, pie chart, dotplot, histogram, stemplot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80880" y="291132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me distributions show  rates (percents of thing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thers show counts (numbers of th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808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Pie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80880" y="914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nd the percentage for each cat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80880" y="1447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raw 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80880" y="3581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ll 100% of data must be dis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80880" y="20574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dges of the circle represent the different categories of the variable, where the angle of the wedge corresponds to the % of the cat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808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33520" y="914400"/>
            <a:ext cx="73152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distribution of eye colors in this class i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row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aze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a pie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808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Bar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80880" y="914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show % or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80880" y="1447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x-axis with all values of th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80880" y="3124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a bar for each value that is the appropriate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80880" y="20574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y-axis with highest amount of the values of th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808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33520" y="914400"/>
            <a:ext cx="73152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distribution of eye colors in this class i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row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aze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a bar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808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Pict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80880" y="914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ar graph where pictures replace the 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80880" y="1447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 careful that the size of the pictures are proportional to the size of the values of th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80880" y="2438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be misl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80880" y="29718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ample 4.4 on page 2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0:09:38Z</dcterms:created>
  <dc:creator>Lauren Senske</dc:creator>
  <dc:description/>
  <dc:language>en-US</dc:language>
  <cp:lastModifiedBy>Lauren Senske</cp:lastModifiedBy>
  <dcterms:modified xsi:type="dcterms:W3CDTF">2009-10-08T15:56:39Z</dcterms:modified>
  <cp:revision>15</cp:revision>
  <dc:subject/>
  <dc:title>Slide 1</dc:title>
</cp:coreProperties>
</file>